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02D-797D-4BB4-B6E9-4F038257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9F3-5345-4BD6-982E-F134FC36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58AE2-5EAC-489B-925C-3972234F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DB277-B1C4-4451-9DA0-213E48FC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86220-DC5D-4178-8F77-445F7863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6E594-0DAC-4D11-80E0-80646D28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6F668-2139-4448-AF3D-641A22BB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00930-0644-4712-9C1D-12533973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F2413-D69A-4298-B835-E8E4AA17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4D74E-6BDF-41CC-9D2E-DDE38B8F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1F81C-3732-41FD-9DD8-6B51B87B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B441B-7A54-4B68-9D83-F6717B23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8E7-90F2-4966-A47F-F7D14B54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24AC1-FC9C-4EBD-A17D-5B92F78D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ED9EC-6FD1-4900-9754-D128AC6D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F180E-8EB0-4894-863F-D3CB393E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68ACB-A499-4A76-BD57-6764AE01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2CB1D-2124-41EF-A9C3-C5828099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9865C-BB80-45CA-90E3-56E60A3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803CF-044A-4B9C-AD74-50BEC4B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AB2D6-6AC8-482F-88FA-FF641832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2E5ED-C002-43B4-BD1D-C091039F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3B92A-3BAD-46AA-9EBE-9FCEB64B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2AE-312A-4A93-AF3E-EA0BDF9E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E3C20-7127-4EF4-B8F1-7104800D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04ADC-31F4-4BFF-8938-2F82D7A9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3B37E-BE8E-40B6-B6F8-790CFA12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1B4CC-2496-448C-BB82-E37E2349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30D95-C222-413D-91B4-965C2C49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F1A8A-1471-4D23-B974-F1413736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DBE7F-6B36-43A3-8EB2-41EE50DB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FD127-F8F4-475E-8CCD-39453EA2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8A9C5-D8FA-43CF-8B44-965933DA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75F3B-6A18-49A9-A472-8B668A96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658E-A471-49C5-8602-58B19895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7D745-F978-4E57-A641-88564891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0AD95-ACA9-407F-B0A9-0EA586A8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F0C9F-1985-4D6F-AEE5-A41979B4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4B2A8-19FC-4FAE-8B5E-855C01FF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61223-F950-417B-B175-B7AB4F36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EE032-ED9F-4DA1-A391-73FA42E7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F94CB-2729-485D-B84B-F2A7193E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0761E-FB54-4DE0-B5AD-5EFB2DFB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18AD0-9F11-4BB8-9E4D-FB68802F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CFBAD-E336-46E6-988A-6E6C989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FEA9-8DB4-42A8-8C93-32265AAD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4EA6D-FEED-4C03-A88E-EBECD5DE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69447-7F2B-421D-944F-543C205E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01E8B-1936-4E76-A056-DAA9CFE3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C6F29-FAB9-483A-90A0-4F1D06B5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E216E-BCF9-4FD9-9D6E-4506E05C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41710-84B0-49E5-BF80-8161EBE0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EAA93-DBE2-4131-8220-8228BEBB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68B40-D3E6-416B-A27D-E5D9A654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A294F-9AAB-4FD9-B64F-B1538268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54A28-1642-44C0-A297-0BD2B4D0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E238-4C65-4B67-B38F-17137362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BC6AF-F179-4CE8-B710-D1C60186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A7BD9-EE3E-4C65-8C75-6C6F5D87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22083-CE37-4429-B096-92D6D679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8E15E9-7ED3-477D-B673-D0F8DA23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52E69-9250-46A3-BA0E-91A76D37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2F7C8-A89A-4A65-803E-066C0410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9B71F-92FA-4656-8334-DA8AB117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0B6DD-3B28-4850-9F06-BBF799A5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0249A-CE99-4038-9B12-93049947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8C7CC-AF12-41FD-8DF1-F83FD932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5A0E-33CE-436E-8C1F-D3A1ECFF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96CAF-84F6-467C-A131-1429034E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59771-46C1-4279-888E-58019B98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FAF38-FB07-4C8A-A04B-4B382541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3BC3A-8515-48A3-A011-A7B50FEC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1036B-4856-4599-89DB-A5F574C0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6D9F6-2DC3-4D26-8C01-4681F3E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96B7D-D0D4-4D88-AEF4-DDC258D0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56349-2AAA-421F-AA62-2F7ACC80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94EB2-D1A6-495E-9794-6FF6EB29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6910A-6609-4068-ABA5-F5A4A457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C597-8148-456A-B3E8-25452419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E0FAD-7E3A-4FDE-9CC9-7E96E00F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8BA2A-9C8E-4795-A142-B6EE41A3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E5674-C7C6-4C9F-B525-06B192A9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0B993-8BA5-4FEE-8131-E493A098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1E655-3710-4247-8D8E-FAE1ED0F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801EC-1C49-4B8D-B849-B1FF78CD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034EB-7E06-4F16-AEE1-8D808320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85725-02D1-4650-9666-4C04FB2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A6CDB-8E36-4427-A0C3-D69AB0D5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FCB9D-D463-422C-823B-4A2EFC08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9E21-2C87-4219-90DF-FD41BB27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DBE01-724D-475B-841D-0BDE84A8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BAB63-3E6B-4071-8199-245902FC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78F27B-D563-4E72-B4B2-900B5F8E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FC785A-7004-4363-956B-EBEC10F6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81FF7-C4E9-48F7-B1C9-7B62DB71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DC7768-6207-40B5-ACE1-B992496B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9FD10-6601-4DB3-9DBA-26755787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63172-822C-472A-B4A4-F50AA880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83B9B-F842-4A1B-BD0D-399B0130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6CA1B-EA53-4EC8-9E51-093671D6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7980-5F38-42DA-849B-55CAE64B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BC2AE-3323-4805-AE51-0E437E34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1DD4A-1A2D-45AB-8D3E-FCED492E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CB753-1481-4F46-93F0-8AD8D2E9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93D86-6979-4125-8B8F-5087BCE5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AC833-CD2E-4FD3-9F66-9600DB9F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DAE80-B3B2-4CCC-9DDF-C329DEBE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6DCD43-68C2-46AA-B5DB-57727AC4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75C672-FAE8-47F6-AC33-B440288D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94137E-6D96-41EB-A32B-53D2A3E7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D861A-335C-4680-9C81-70D133B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320-5BB0-44A2-A51E-8BBF6AD8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74F9-321B-45EF-90CB-C0116FB5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D5A320-3992-4137-BA64-28DA8AC6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6245F4-1109-4A9F-86B1-A45FE6E3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AB986-82B8-4E2C-8135-0B778420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4DAB9-CACF-4FCD-907A-E0BA8988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9252D-ED27-46FB-AB00-7D050E71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4A1689-64CC-4D08-92EE-674BAB38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10207B-85ED-48AB-B3A3-B9E4F1E1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EF6FE-15E2-44EB-A8F6-09ED18B6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C3491-10D3-4AE4-8601-FFEC8BE9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7D0DC8-9FEF-481D-9438-835638F5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F35F-5103-47CD-8E0A-ED01765A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70F3B-4D73-49AF-BEE4-FFD0771C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EB32A9-2D35-4F19-A177-B408CB5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150B9B-B3F5-4F33-AB49-265BD994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4912A-DA20-4179-B918-C3CA6A2A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E8D219-8453-44B6-BDD9-3B3BE965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BAEAA6-DF6E-416E-9D4C-320D1DF7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589EF-7FC0-4875-A829-DAE9B65A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CAE194-7027-4BC7-8A38-5A05A454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B3EED9-419B-43D1-97FE-B21038F6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0061A-BD09-4331-9D49-AE69F601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6F71-1A6A-4609-84E4-A6A5F9EC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14F7FA-6FB9-4C6D-9C61-2370EFE5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18D53-0C2E-4A68-A6A3-88C095B0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E2B210-8385-457B-B35F-AECE1A18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9A4CB3-FF80-402C-BC1E-EB284590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6AE9A6-20A1-4D75-B796-7CE46676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C1CE6-207A-45ED-AC6A-91A28D11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57C19-5F28-4D04-B07D-1C9FFB35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B71B3-595D-45CA-AB03-32C4AF1E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19BE0-4511-40FE-9040-BEF290EF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707FCE-1F53-4508-BBEA-D8646322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ED47-D03C-4909-9E59-5D7AB6DE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68919-BF85-47AD-A10B-8DB9BFE0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E899B-A8A8-49A2-BAA3-A4E4CBB6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ED55D-0222-4238-B7AE-C0AC88FB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D8E0E-EBC6-4113-932D-16E0E595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0B359-4D6A-4682-90C5-180D5480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FAC7C4-D2EE-4C64-92F2-012FC20D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4EF4EE-0209-458F-BAE4-80767567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5101DA-4E81-4090-BA78-5454501A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EEC3E-1081-4419-B72C-9166F4CC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83AD5F-3610-4FB4-B31C-E90D9116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167C-07C9-4449-90EC-DE394F70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843FD-2996-4BAA-94EB-4B5A8722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59353C-2506-4C11-A99E-517F8B55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15CC2D-D5B0-4996-B296-30AA008E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6C8EF-8901-41FE-BB06-42F08A73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946BFC-4F76-48BB-877D-F84EE93C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0268E7-4856-439D-A6EE-964CE420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C8B218-4D01-4E84-A8D9-44CB1C25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6C3431-AEAF-443D-B8F8-004C9848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836A55-AF57-4AB1-8BA5-FC76B308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F59EC3-2A74-4B06-B5F8-0734CBE1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55079-CB67-4932-83E4-57FCCBA0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A62E0-EB72-4225-AB14-4C849C7A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AA9287-27DB-4E0C-A416-37E59DB3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B1C0C-E363-483E-BC1B-27EB6EE9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7169-00A2-4D18-BC85-58702D4B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80F6-0844-46B3-BDAC-02677746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CD76-0727-4DF9-A267-E24B0551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A6DB-F8AE-4DEB-9832-CB06A196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2EE-8DCD-4C3D-86E2-C4644A3F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8934A-2A10-4324-B620-30188106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4348-2134-4461-A086-44E13F4E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8C6C-BFA7-42F7-A7C6-D6FFEC00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43F4-AC12-4A9D-8EB9-456322B8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00D3-ADDF-4069-B1A2-06341EEA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548A-36E8-491D-8E32-8548E140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4F9E-D91E-4344-A6C3-1842573E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9F42-6C14-4011-B5AF-09593F88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0263-769E-40C8-9DBD-6303910D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69C05-36F7-4B2A-B9CC-4438797D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1D1-8FE2-4945-AFC9-0EE1B584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11F81-A125-4D9B-B05B-C0DD4A59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7DA6-AEAF-4FCC-B282-93ACBCD1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A6C5D-6BBF-4E0C-8BCC-CE54250B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7ADD7-E764-46D7-BD29-F1B2D7E0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03218-60A6-480C-810F-9D0BD7DF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922E5-0E65-45FD-9763-FEA6A70F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42C4-769B-4414-B31C-0DC2B92C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BE382-E3A6-414B-896F-863F117A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BAFE7-FC8B-4576-9012-3B3AA72C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E436C-5326-445D-B8CD-CD33A0BD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93A-791F-418B-B06F-C6FD4741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7EA73-446F-4342-BA55-6FDD1E32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4ED8E-6298-4AB5-9001-7F8D91CA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0A1BA-119A-4702-BD7F-4FDC9D05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FFE2B-B03C-46B3-9759-E89B8A70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12D9E-32F1-42B3-BB60-5DEEEEE6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4AE1B-06E8-4026-BD5A-9FFFC276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4774A-7AD7-4DFE-B341-392DE477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42D9C-D2B8-4591-A53B-2461A2D1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A5AA-9176-465D-BFFE-C5DC37A4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21483-54BA-4581-8CDA-378C214B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69F-A523-415A-B59B-C29B0584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09FB6-84E9-4D34-A021-578A8348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6325A-E7F8-4B25-B438-84B64C10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883B1-DB0B-4974-AF15-18B6442C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9F454-2E30-434F-A7F0-2716CF87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32FBE-2D47-4822-8ED3-2EA9ABF1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6EBB8-5B43-4D61-BF85-EC22F10E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5717C-4988-47CC-8953-FAC31DCF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1A5B0-C6A9-4EF0-AFF2-3A503505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2B8A0-2EED-446E-9482-B1590D1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E2477-8BA4-4F4E-84AC-733C086E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A03-0696-468F-BCC5-C9E93B63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48472-0C81-4541-ADAD-0422FFEF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4FDC4-40B7-48E7-8A63-5453BD5F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C0D34-6990-4D15-8451-5731E056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8872D-A38D-440C-AD39-598C57FF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BEFB2-E080-4B51-8B1C-34BAAB51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938B1-98BA-4E23-82A2-3D15F94B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F8561-D141-4D76-9051-27594621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4E8F8-CCB7-4BA8-8034-BEA78B23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FBB1C-EA7B-4B9F-B67E-71DDF48A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E824-2058-48A0-97B5-51340EFB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117-A94F-4371-BEDA-C3ACBF7C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B7B11-534D-477E-941A-7EDA1B28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A3FAE-51AA-49E9-B930-AFD4E68A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741C5-6EDA-4005-A392-A61124BD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DF50D-580D-4CB6-B67D-A61BB778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AE117-4864-489C-809D-87B908D2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831D9-47EC-42C1-A0C1-376BC6B7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90411-5167-47D5-8ACE-ED7C39C7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0FD39-8F59-4FAA-A003-89AB2E4A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6F6E6-D0BB-48EC-886A-A7AEB6AF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6A8C7-0EFE-4CEE-A928-BFD825B1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70D-7EB6-4985-BB9A-5F82DE6E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B3BF8-87A3-44CF-8B99-3BA88232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19C69-46F8-41FD-8F6E-DEB74FBD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951A3-B8A7-4C34-BFAE-C9C20E15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B5F88-4247-4063-853B-328B4519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EB4CF-C0D3-420C-A6AB-AB97BC16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42DEF-D978-495D-BEC4-22149AD7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D3062-4D50-44D4-AC7E-A035006B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C875C-6786-4328-9562-CBEA4C12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5405C-C1F2-43DD-912D-729AC4CE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9BE63-9118-47F6-AB41-E5FFB55B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9074-D6C3-401C-82FD-5E71442712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5496-4470-4BC8-AC80-FD2998309B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5811-F08E-4742-9908-2493999DF7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6BB0-086B-42CC-9A73-A2E735F0F8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7B69-900A-426D-8734-4F85E6A70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3BE2-3FEE-48F1-93C3-8123429728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6F11-C800-4CC4-AEC2-7975D6DE20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0FD2-E228-4D02-B02E-0063B60662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ECCA-F487-4979-BCB8-BDB1F49E0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4460-DDEE-447D-A5B1-5453A6C869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DDD8-8FB9-4024-884A-472270EC1D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D814-AB21-44DB-9208-74DA1EB036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F08D-006E-4735-A9AE-0EC760E11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7D0E-3575-4343-84A5-DF5607FAF3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C05B-EB61-4BE1-8F37-E444004E5B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904F-226C-4CEA-9097-E8784287A9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896D-84C9-4B22-BF40-829283C11C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6B49-5B50-499A-8E9D-F4E08A5EDF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FE53-E562-4B9E-AEC6-256E265264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37E5-FDB7-4EE4-BBB5-B49BB8AA8F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CF6A-A085-494A-B380-D1868A8833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EB31-0EAE-45A3-AD52-945572265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87D0-E8D4-406A-B3A6-3166A00A94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1C09-3119-4F2B-AF16-76F8E2D683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5C14-1382-4BA4-BED9-DFD44E4053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CC92-BBC8-408E-B088-4E3F9194EF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510E-5937-46BC-AB35-097690EAA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ECAF-3F33-4063-95D6-686C82991A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C97C-6E7B-4D9B-ADB8-B35723A2F5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E403-E94C-40CB-80B9-D4D4E6F4B5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1922-B06B-46AE-B76B-831470F391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58B0-B515-431B-BBED-57D0E8A0D8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D9FC-6C42-4814-9151-448E5D0589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214E-E1EA-49CE-9649-8710270729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AE43-56D5-4ECE-8E47-AC8A6B1B7B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BD33-876A-419E-9CFA-2A74494E6B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8D77-5B19-4DFC-9C2E-EB0088F83E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AABF-3153-45F1-B1E4-CCF681C154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058B-C3BC-4200-8003-2E5A41C42F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ADF8-74D8-4F43-8D7B-1B2C8E15CF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085760" y="3029040"/>
            <a:ext cx="69724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69633" descr=""/>
          <p:cNvPicPr/>
          <p:nvPr/>
        </p:nvPicPr>
        <p:blipFill>
          <a:blip r:embed="rId1"/>
          <a:stretch/>
        </p:blipFill>
        <p:spPr>
          <a:xfrm>
            <a:off x="233280" y="1876320"/>
            <a:ext cx="8677440" cy="31053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539640" y="3529080"/>
            <a:ext cx="7417080" cy="473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468360" y="4105440"/>
            <a:ext cx="74167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68609" descr=""/>
          <p:cNvPicPr/>
          <p:nvPr/>
        </p:nvPicPr>
        <p:blipFill>
          <a:blip r:embed="rId1"/>
          <a:stretch/>
        </p:blipFill>
        <p:spPr>
          <a:xfrm>
            <a:off x="223920" y="684360"/>
            <a:ext cx="8696160" cy="60577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826920" y="4021200"/>
            <a:ext cx="8066160" cy="8334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826920" y="5099040"/>
            <a:ext cx="865440" cy="473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1692360" y="4911840"/>
            <a:ext cx="3240000" cy="8222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5"/>
          <a:stretch/>
        </p:blipFill>
        <p:spPr>
          <a:xfrm>
            <a:off x="5003640" y="5099040"/>
            <a:ext cx="3889440" cy="4730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6"/>
          <a:stretch/>
        </p:blipFill>
        <p:spPr>
          <a:xfrm>
            <a:off x="684360" y="5877000"/>
            <a:ext cx="3240000" cy="8222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7"/>
          <a:stretch/>
        </p:blipFill>
        <p:spPr>
          <a:xfrm>
            <a:off x="3952800" y="5919840"/>
            <a:ext cx="4219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47600" y="1704960"/>
            <a:ext cx="8848800" cy="34480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6084720" y="3457440"/>
            <a:ext cx="1366920" cy="473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835280" y="4019400"/>
            <a:ext cx="1366560" cy="473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6084720" y="4033800"/>
            <a:ext cx="1366920" cy="473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2124000" y="4552920"/>
            <a:ext cx="2592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59410" descr=""/>
          <p:cNvPicPr/>
          <p:nvPr/>
        </p:nvPicPr>
        <p:blipFill>
          <a:blip r:embed="rId1"/>
          <a:stretch/>
        </p:blipFill>
        <p:spPr>
          <a:xfrm>
            <a:off x="214200" y="1100160"/>
            <a:ext cx="8715600" cy="4657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8042400" y="3027240"/>
            <a:ext cx="576000" cy="473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042920" y="5157720"/>
            <a:ext cx="576360" cy="473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2627280" y="5157720"/>
            <a:ext cx="576360" cy="473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4356000" y="5157720"/>
            <a:ext cx="576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8373" descr=""/>
          <p:cNvPicPr/>
          <p:nvPr/>
        </p:nvPicPr>
        <p:blipFill>
          <a:blip r:embed="rId1"/>
          <a:stretch/>
        </p:blipFill>
        <p:spPr>
          <a:xfrm>
            <a:off x="828720" y="1362240"/>
            <a:ext cx="7486560" cy="41335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92720" cy="473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619280" y="4508640"/>
            <a:ext cx="6192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57352" descr=""/>
          <p:cNvPicPr/>
          <p:nvPr/>
        </p:nvPicPr>
        <p:blipFill>
          <a:blip r:embed="rId1"/>
          <a:stretch/>
        </p:blipFill>
        <p:spPr>
          <a:xfrm>
            <a:off x="819000" y="744480"/>
            <a:ext cx="7506000" cy="59245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187280" y="1859040"/>
            <a:ext cx="66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116000" y="2421000"/>
            <a:ext cx="66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187280" y="2997360"/>
            <a:ext cx="66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187280" y="5113440"/>
            <a:ext cx="66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1116000" y="5675400"/>
            <a:ext cx="6624720" cy="473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7"/>
          <a:stretch/>
        </p:blipFill>
        <p:spPr>
          <a:xfrm>
            <a:off x="1187280" y="6251400"/>
            <a:ext cx="662472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6324" descr=""/>
          <p:cNvPicPr/>
          <p:nvPr/>
        </p:nvPicPr>
        <p:blipFill>
          <a:blip r:embed="rId1"/>
          <a:stretch/>
        </p:blipFill>
        <p:spPr>
          <a:xfrm>
            <a:off x="276120" y="1224000"/>
            <a:ext cx="8591760" cy="44100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8013600" y="2421000"/>
            <a:ext cx="576360" cy="4730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2124000" y="5013360"/>
            <a:ext cx="17272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5300" descr=""/>
          <p:cNvPicPr/>
          <p:nvPr/>
        </p:nvPicPr>
        <p:blipFill>
          <a:blip r:embed="rId1"/>
          <a:stretch/>
        </p:blipFill>
        <p:spPr>
          <a:xfrm>
            <a:off x="266760" y="1576440"/>
            <a:ext cx="8610480" cy="3705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028000" y="2637000"/>
            <a:ext cx="576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4276" descr=""/>
          <p:cNvPicPr/>
          <p:nvPr/>
        </p:nvPicPr>
        <p:blipFill>
          <a:blip r:embed="rId1"/>
          <a:stretch/>
        </p:blipFill>
        <p:spPr>
          <a:xfrm>
            <a:off x="923760" y="1305000"/>
            <a:ext cx="7296480" cy="4248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7129440" cy="936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042920" y="4956120"/>
            <a:ext cx="7129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2231" descr=""/>
          <p:cNvPicPr/>
          <p:nvPr/>
        </p:nvPicPr>
        <p:blipFill>
          <a:blip r:embed="rId1"/>
          <a:stretch/>
        </p:blipFill>
        <p:spPr>
          <a:xfrm>
            <a:off x="1000080" y="1895400"/>
            <a:ext cx="7143840" cy="30672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7559640" cy="8650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75596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38:0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